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80E-DED2-45E3-BBD5-355D011C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DC4-768C-4E6D-9525-DE36634A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165-2B59-464C-812C-FF9630FF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CA7-6F6C-4013-A2B9-345AF9D9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919-9C85-450C-BA54-D4CA09D8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D472-4316-4EDA-8D65-7012B184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DD3B-8CFD-4CB7-9D7A-4CB1B96C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7FE5-2620-457E-82CA-B7750207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A402-F27C-466E-8134-31884666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2D2C-B58C-41C2-9C46-8BEB5552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FBCC-ADE5-4D81-8FDB-C219819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D2F-49E3-4D20-930D-A391CF4D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9F89-229A-4C09-A0B0-BFFBD0C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052-9239-4EE5-B2E7-9771639B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117D-5EC2-4203-BF2C-21B8EFDD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9317-21B7-454B-9776-915F5255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03DA-EB4C-4CAD-A6BF-F312A521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1D3-9310-4C77-9E5E-768E45BA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2E0-4D1E-4C33-9461-78CB353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977-2C10-479D-9492-F85DF330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A3D-FC70-423A-8147-09A47D09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FBC-E6B8-4039-8F06-BA78D4B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7EE-58DE-44C3-90A1-B607564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992-45B7-4ACF-B20B-ADC1EEF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7404-CD97-4C6B-9A03-1E523822DDC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5CB-7B88-4CBF-952D-48DFD06F1C1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57960" y="6000840"/>
            <a:ext cx="2643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втор: учитель – логопед</a:t>
            </a:r>
            <a:br>
              <a:rPr sz="1100"/>
            </a:br>
            <a:r>
              <a:rPr b="1" lang="ru-RU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У Борский психологический центр</a:t>
            </a:r>
            <a:br>
              <a:rPr sz="1100"/>
            </a:br>
            <a:r>
              <a:rPr b="1" lang="ru-RU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нисова Лариса Геннадьевна</a:t>
            </a:r>
            <a:endParaRPr b="0" lang="en-US" sz="11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285840"/>
            <a:ext cx="84582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Arial"/>
              </a:rPr>
              <a:t>Фрукты и овощи</a:t>
            </a:r>
            <a:endParaRPr b="0" lang="en-US" sz="6000" spc="-1" strike="noStrike">
              <a:solidFill>
                <a:srgbClr val="996633"/>
              </a:solidFill>
              <a:latin typeface="Arial"/>
            </a:endParaRPr>
          </a:p>
        </p:txBody>
      </p:sp>
      <p:grpSp>
        <p:nvGrpSpPr>
          <p:cNvPr id="86" name="Группа 5"/>
          <p:cNvGrpSpPr/>
          <p:nvPr/>
        </p:nvGrpSpPr>
        <p:grpSpPr>
          <a:xfrm>
            <a:off x="2500200" y="2000160"/>
            <a:ext cx="4138560" cy="3143520"/>
            <a:chOff x="2500200" y="2000160"/>
            <a:chExt cx="4138560" cy="3143520"/>
          </a:xfrm>
        </p:grpSpPr>
        <p:pic>
          <p:nvPicPr>
            <p:cNvPr id="87" name="Picture 2" descr=""/>
            <p:cNvPicPr/>
            <p:nvPr/>
          </p:nvPicPr>
          <p:blipFill>
            <a:blip r:embed="rId1"/>
            <a:stretch/>
          </p:blipFill>
          <p:spPr>
            <a:xfrm>
              <a:off x="2500200" y="2000160"/>
              <a:ext cx="413856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"/>
            <p:cNvPicPr/>
            <p:nvPr/>
          </p:nvPicPr>
          <p:blipFill>
            <a:blip r:embed="rId2"/>
            <a:stretch/>
          </p:blipFill>
          <p:spPr>
            <a:xfrm rot="19810200">
              <a:off x="3610800" y="2760480"/>
              <a:ext cx="1647000" cy="11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«Назови ласково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1071360" cy="2071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500880" y="1214280"/>
            <a:ext cx="1981080" cy="192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0" y="3714840"/>
            <a:ext cx="2286000" cy="19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4"/>
          <a:stretch/>
        </p:blipFill>
        <p:spPr>
          <a:xfrm>
            <a:off x="6286680" y="4214880"/>
            <a:ext cx="2060280" cy="135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5"/>
          <a:stretch/>
        </p:blipFill>
        <p:spPr>
          <a:xfrm>
            <a:off x="3429000" y="4000680"/>
            <a:ext cx="1757520" cy="1626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6"/>
          <a:stretch/>
        </p:blipFill>
        <p:spPr>
          <a:xfrm>
            <a:off x="3000240" y="1714680"/>
            <a:ext cx="2500560" cy="12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«Один – много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42960" y="1195560"/>
            <a:ext cx="1500120" cy="1263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435640" y="1357200"/>
            <a:ext cx="2065320" cy="1071720"/>
          </a:xfrm>
          <a:prstGeom prst="rect">
            <a:avLst/>
          </a:prstGeom>
          <a:ln w="0">
            <a:noFill/>
          </a:ln>
        </p:spPr>
      </p:pic>
      <p:sp>
        <p:nvSpPr>
          <p:cNvPr id="179" name="Стрелка вправо 8"/>
          <p:cNvSpPr/>
          <p:nvPr/>
        </p:nvSpPr>
        <p:spPr>
          <a:xfrm>
            <a:off x="3286080" y="16430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606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642960" y="2500200"/>
            <a:ext cx="1189080" cy="1152720"/>
          </a:xfrm>
          <a:prstGeom prst="rect">
            <a:avLst/>
          </a:prstGeom>
          <a:ln w="0">
            <a:noFill/>
          </a:ln>
        </p:spPr>
      </p:pic>
      <p:sp>
        <p:nvSpPr>
          <p:cNvPr id="181" name="Стрелка вправо 10"/>
          <p:cNvSpPr/>
          <p:nvPr/>
        </p:nvSpPr>
        <p:spPr>
          <a:xfrm>
            <a:off x="3286080" y="2857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606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4"/>
          <a:stretch/>
        </p:blipFill>
        <p:spPr>
          <a:xfrm>
            <a:off x="5429160" y="2500200"/>
            <a:ext cx="2143080" cy="1285920"/>
          </a:xfrm>
          <a:prstGeom prst="rect">
            <a:avLst/>
          </a:prstGeom>
          <a:ln w="0">
            <a:noFill/>
          </a:ln>
        </p:spPr>
      </p:pic>
      <p:sp>
        <p:nvSpPr>
          <p:cNvPr id="183" name="Стрелка вправо 12"/>
          <p:cNvSpPr/>
          <p:nvPr/>
        </p:nvSpPr>
        <p:spPr>
          <a:xfrm>
            <a:off x="321480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606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5"/>
          <a:stretch/>
        </p:blipFill>
        <p:spPr>
          <a:xfrm>
            <a:off x="428760" y="4143240"/>
            <a:ext cx="2071440" cy="857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5429160" y="3929040"/>
            <a:ext cx="2143080" cy="1174680"/>
          </a:xfrm>
          <a:prstGeom prst="rect">
            <a:avLst/>
          </a:prstGeom>
          <a:ln w="0">
            <a:noFill/>
          </a:ln>
        </p:spPr>
      </p:pic>
      <p:sp>
        <p:nvSpPr>
          <p:cNvPr id="186" name="Стрелка вправо 15"/>
          <p:cNvSpPr/>
          <p:nvPr/>
        </p:nvSpPr>
        <p:spPr>
          <a:xfrm>
            <a:off x="3214800" y="5643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606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7"/>
          <a:stretch/>
        </p:blipFill>
        <p:spPr>
          <a:xfrm>
            <a:off x="5429160" y="5245200"/>
            <a:ext cx="2143080" cy="1326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8"/>
          <a:stretch/>
        </p:blipFill>
        <p:spPr>
          <a:xfrm>
            <a:off x="642960" y="528624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786040" y="928800"/>
            <a:ext cx="1857240" cy="160956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85840" y="1285920"/>
            <a:ext cx="242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истый и полезный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ный, хотя резкий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ий вкус имеет он…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жигает… Не лим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928800" y="5143680"/>
            <a:ext cx="1490400" cy="15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7215120" y="928800"/>
            <a:ext cx="1571760" cy="16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4"/>
          <a:stretch/>
        </p:blipFill>
        <p:spPr>
          <a:xfrm>
            <a:off x="285840" y="2714760"/>
            <a:ext cx="1357200" cy="144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5"/>
          <a:stretch/>
        </p:blipFill>
        <p:spPr>
          <a:xfrm>
            <a:off x="4429080" y="2286000"/>
            <a:ext cx="2125800" cy="150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6"/>
          <a:stretch/>
        </p:blipFill>
        <p:spPr>
          <a:xfrm>
            <a:off x="6286680" y="5000760"/>
            <a:ext cx="1500120" cy="157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7"/>
          <a:stretch/>
        </p:blipFill>
        <p:spPr>
          <a:xfrm>
            <a:off x="7000920" y="3714840"/>
            <a:ext cx="1619280" cy="1214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2"/>
          <p:cNvSpPr/>
          <p:nvPr/>
        </p:nvSpPr>
        <p:spPr>
          <a:xfrm>
            <a:off x="5143680" y="92880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родная крал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ылась в подвал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-жёлтая на цвет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са-то, как бук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2000160" y="3000240"/>
            <a:ext cx="214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е, румяно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ту на ветк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меня взрослы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ленькие де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357960" y="2643120"/>
            <a:ext cx="25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ранжевой коже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ячик похожи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центре не пуст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чно и вкус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4572000" y="4000680"/>
            <a:ext cx="235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чти как апельси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лстой кожей, сочны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лишь один -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ый очень, оч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6"/>
          <p:cNvSpPr/>
          <p:nvPr/>
        </p:nvSpPr>
        <p:spPr>
          <a:xfrm>
            <a:off x="714240" y="45720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док он, но толстокож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уть-чуть на серп похож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3571920" y="5286240"/>
            <a:ext cx="214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ёная толстух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ла уйму юбок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как балерина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истьев пелер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677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«Что растёт на грядке и в саду?»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«Четвёртый      лишний»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000680" y="1071720"/>
            <a:ext cx="1785600" cy="136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357280" y="4786200"/>
            <a:ext cx="1214640" cy="164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572000" y="2857680"/>
            <a:ext cx="14288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000680" y="4929120"/>
            <a:ext cx="201924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6500880" y="1214280"/>
            <a:ext cx="1785960" cy="133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 rot="2273400">
            <a:off x="213840" y="5286240"/>
            <a:ext cx="1928880" cy="857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7"/>
          <a:stretch/>
        </p:blipFill>
        <p:spPr>
          <a:xfrm>
            <a:off x="0" y="1143000"/>
            <a:ext cx="2048040" cy="1380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8"/>
          <a:stretch/>
        </p:blipFill>
        <p:spPr>
          <a:xfrm>
            <a:off x="2571840" y="1143000"/>
            <a:ext cx="1238040" cy="14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"/>
          <p:cNvPicPr/>
          <p:nvPr/>
        </p:nvPicPr>
        <p:blipFill>
          <a:blip r:embed="rId9"/>
          <a:stretch/>
        </p:blipFill>
        <p:spPr>
          <a:xfrm>
            <a:off x="2214720" y="3071880"/>
            <a:ext cx="1519200" cy="128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10"/>
          <a:stretch/>
        </p:blipFill>
        <p:spPr>
          <a:xfrm>
            <a:off x="6929280" y="4786200"/>
            <a:ext cx="1500480" cy="1687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"/>
          <p:cNvPicPr/>
          <p:nvPr/>
        </p:nvPicPr>
        <p:blipFill>
          <a:blip r:embed="rId11"/>
          <a:stretch/>
        </p:blipFill>
        <p:spPr>
          <a:xfrm>
            <a:off x="214200" y="2857680"/>
            <a:ext cx="1424160" cy="15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12"/>
          <a:stretch/>
        </p:blipFill>
        <p:spPr>
          <a:xfrm>
            <a:off x="6429240" y="29289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ая соединительная линия 20"/>
          <p:cNvSpPr/>
          <p:nvPr/>
        </p:nvSpPr>
        <p:spPr>
          <a:xfrm>
            <a:off x="142920" y="2643120"/>
            <a:ext cx="88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4"/>
          <p:cNvSpPr/>
          <p:nvPr/>
        </p:nvSpPr>
        <p:spPr>
          <a:xfrm>
            <a:off x="142920" y="4786200"/>
            <a:ext cx="878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алее 16"/>
          <p:cNvSpPr/>
          <p:nvPr/>
        </p:nvSpPr>
        <p:spPr>
          <a:xfrm>
            <a:off x="8643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Молодец!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Управляющая кнопка: назад 3"/>
          <p:cNvSpPr/>
          <p:nvPr/>
        </p:nvSpPr>
        <p:spPr>
          <a:xfrm>
            <a:off x="7429680" y="6286680"/>
            <a:ext cx="1714320" cy="571320"/>
          </a:xfrm>
          <a:custGeom>
            <a:avLst/>
            <a:gdLst>
              <a:gd name="textAreaLeft" fmla="*/ 36720 w 1714320"/>
              <a:gd name="textAreaRight" fmla="*/ 1677600 w 1714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4786" h="21600">
                <a:moveTo>
                  <a:pt x="0" y="0"/>
                </a:moveTo>
                <a:lnTo>
                  <a:pt x="64786" y="0"/>
                </a:lnTo>
                <a:lnTo>
                  <a:pt x="64786" y="21600"/>
                </a:lnTo>
                <a:lnTo>
                  <a:pt x="0" y="21600"/>
                </a:lnTo>
                <a:close/>
              </a:path>
              <a:path fill="lightenLess" w="64786" h="21600">
                <a:moveTo>
                  <a:pt x="0" y="0"/>
                </a:moveTo>
                <a:lnTo>
                  <a:pt x="64786" y="0"/>
                </a:lnTo>
                <a:lnTo>
                  <a:pt x="63386" y="1400"/>
                </a:lnTo>
                <a:lnTo>
                  <a:pt x="1400" y="1400"/>
                </a:lnTo>
                <a:close/>
              </a:path>
              <a:path fill="darken" w="64786" h="21600">
                <a:moveTo>
                  <a:pt x="64786" y="0"/>
                </a:moveTo>
                <a:lnTo>
                  <a:pt x="64786" y="21600"/>
                </a:lnTo>
                <a:lnTo>
                  <a:pt x="63386" y="20200"/>
                </a:lnTo>
                <a:lnTo>
                  <a:pt x="63386" y="1400"/>
                </a:lnTo>
                <a:close/>
              </a:path>
              <a:path fill="darkenLess" w="64786" h="21600">
                <a:moveTo>
                  <a:pt x="64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6" y="20200"/>
                </a:lnTo>
                <a:close/>
              </a:path>
              <a:path fill="lighten" w="64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6" h="21600">
                <a:moveTo>
                  <a:pt x="25387" y="10800"/>
                </a:moveTo>
                <a:lnTo>
                  <a:pt x="39400" y="3794"/>
                </a:lnTo>
                <a:lnTo>
                  <a:pt x="3940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j0214098.wav" descr=""/>
          <p:cNvPicPr/>
          <p:nvPr/>
        </p:nvPicPr>
        <p:blipFill>
          <a:blip r:embed="rId1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474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Неверно!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Управляющая кнопка: назад 4"/>
          <p:cNvSpPr/>
          <p:nvPr/>
        </p:nvSpPr>
        <p:spPr>
          <a:xfrm>
            <a:off x="7429680" y="6286680"/>
            <a:ext cx="1714320" cy="571320"/>
          </a:xfrm>
          <a:custGeom>
            <a:avLst/>
            <a:gdLst>
              <a:gd name="textAreaLeft" fmla="*/ 36720 w 1714320"/>
              <a:gd name="textAreaRight" fmla="*/ 1677600 w 1714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4786" h="21600">
                <a:moveTo>
                  <a:pt x="0" y="0"/>
                </a:moveTo>
                <a:lnTo>
                  <a:pt x="64786" y="0"/>
                </a:lnTo>
                <a:lnTo>
                  <a:pt x="64786" y="21600"/>
                </a:lnTo>
                <a:lnTo>
                  <a:pt x="0" y="21600"/>
                </a:lnTo>
                <a:close/>
              </a:path>
              <a:path fill="lightenLess" w="64786" h="21600">
                <a:moveTo>
                  <a:pt x="0" y="0"/>
                </a:moveTo>
                <a:lnTo>
                  <a:pt x="64786" y="0"/>
                </a:lnTo>
                <a:lnTo>
                  <a:pt x="63386" y="1400"/>
                </a:lnTo>
                <a:lnTo>
                  <a:pt x="1400" y="1400"/>
                </a:lnTo>
                <a:close/>
              </a:path>
              <a:path fill="darken" w="64786" h="21600">
                <a:moveTo>
                  <a:pt x="64786" y="0"/>
                </a:moveTo>
                <a:lnTo>
                  <a:pt x="64786" y="21600"/>
                </a:lnTo>
                <a:lnTo>
                  <a:pt x="63386" y="20200"/>
                </a:lnTo>
                <a:lnTo>
                  <a:pt x="63386" y="1400"/>
                </a:lnTo>
                <a:close/>
              </a:path>
              <a:path fill="darkenLess" w="64786" h="21600">
                <a:moveTo>
                  <a:pt x="64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6" y="20200"/>
                </a:lnTo>
                <a:close/>
              </a:path>
              <a:path fill="lighten" w="64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6" h="21600">
                <a:moveTo>
                  <a:pt x="25387" y="10800"/>
                </a:moveTo>
                <a:lnTo>
                  <a:pt x="39400" y="3794"/>
                </a:lnTo>
                <a:lnTo>
                  <a:pt x="3940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MS900074927[1].wav" descr=""/>
          <p:cNvPicPr/>
          <p:nvPr/>
        </p:nvPicPr>
        <p:blipFill>
          <a:blip r:embed="rId1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18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дбери фрукт или овощ к соответствующей фигуре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Овал 4"/>
          <p:cNvSpPr/>
          <p:nvPr/>
        </p:nvSpPr>
        <p:spPr>
          <a:xfrm>
            <a:off x="214200" y="1214280"/>
            <a:ext cx="1643040" cy="1428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7"/>
          <p:cNvSpPr/>
          <p:nvPr/>
        </p:nvSpPr>
        <p:spPr>
          <a:xfrm>
            <a:off x="6357960" y="1357200"/>
            <a:ext cx="2286000" cy="500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8"/>
          <p:cNvSpPr/>
          <p:nvPr/>
        </p:nvSpPr>
        <p:spPr>
          <a:xfrm rot="10800000">
            <a:off x="5072040" y="1356840"/>
            <a:ext cx="571680" cy="2000520"/>
          </a:xfrm>
          <a:prstGeom prst="triangle">
            <a:avLst>
              <a:gd name="adj" fmla="val 52148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1"/>
          <p:cNvSpPr/>
          <p:nvPr/>
        </p:nvSpPr>
        <p:spPr>
          <a:xfrm>
            <a:off x="2571840" y="1500120"/>
            <a:ext cx="1714320" cy="9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2857680" y="4929120"/>
            <a:ext cx="1785600" cy="107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785880" y="4214880"/>
            <a:ext cx="1285920" cy="2441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 rot="20530200">
            <a:off x="5970600" y="4886280"/>
            <a:ext cx="2225520" cy="1085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4"/>
          <a:stretch/>
        </p:blipFill>
        <p:spPr>
          <a:xfrm>
            <a:off x="6215040" y="2928960"/>
            <a:ext cx="1305000" cy="1300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5"/>
          <a:stretch/>
        </p:blipFill>
        <p:spPr>
          <a:xfrm>
            <a:off x="2286000" y="26431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29787E-006 L -0.20486 -0.18894 E">
                                      <p:cBhvr>
                                        <p:cTn id="23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3.22849E-006 L -0.65364 -0.24121 E">
                                      <p:cBhvr>
                                        <p:cTn id="2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20814E-006 L -0.02362 -0.5141 E">
                                      <p:cBhvr>
                                        <p:cTn id="24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4.6346E-006 L 0.48038 -0.51387 E">
                                      <p:cBhvr>
                                        <p:cTn id="25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2.96022E-007 L 0.03942 -0.56637 E">
                                      <p:cBhvr>
                                        <p:cTn id="25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одбери по цвету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 rot="2780400">
            <a:off x="6769800" y="4933080"/>
            <a:ext cx="2022480" cy="14112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500040" y="13572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2071800" y="13572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7286760" y="1357200"/>
            <a:ext cx="914400" cy="91440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5500800" y="1357200"/>
            <a:ext cx="914400" cy="9144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857760" y="1357200"/>
            <a:ext cx="914400" cy="9144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0" y="27147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7215120" y="26431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rcRect l="0" t="24011" r="0" b="24011"/>
          <a:stretch/>
        </p:blipFill>
        <p:spPr>
          <a:xfrm>
            <a:off x="2500200" y="414324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2857680" y="2714760"/>
            <a:ext cx="1822320" cy="1162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6"/>
          <a:stretch/>
        </p:blipFill>
        <p:spPr>
          <a:xfrm>
            <a:off x="285840" y="4643280"/>
            <a:ext cx="1511280" cy="169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7"/>
          <a:stretch/>
        </p:blipFill>
        <p:spPr>
          <a:xfrm>
            <a:off x="5572080" y="2928960"/>
            <a:ext cx="857160" cy="111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8"/>
          <a:stretch/>
        </p:blipFill>
        <p:spPr>
          <a:xfrm>
            <a:off x="4857840" y="4714920"/>
            <a:ext cx="186984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9"/>
          <a:stretch/>
        </p:blipFill>
        <p:spPr>
          <a:xfrm>
            <a:off x="2214720" y="5000760"/>
            <a:ext cx="204768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5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15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«Что растёт на дереве?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3500280" y="4786200"/>
            <a:ext cx="1571760" cy="132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-142920" y="1428840"/>
            <a:ext cx="5070600" cy="3714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6000840" y="4786200"/>
            <a:ext cx="988920" cy="1622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4"/>
          <a:stretch/>
        </p:blipFill>
        <p:spPr>
          <a:xfrm>
            <a:off x="5286240" y="3071880"/>
            <a:ext cx="1071720" cy="1214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5"/>
          <a:stretch/>
        </p:blipFill>
        <p:spPr>
          <a:xfrm>
            <a:off x="428760" y="5143680"/>
            <a:ext cx="1379520" cy="1285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6"/>
          <a:stretch/>
        </p:blipFill>
        <p:spPr>
          <a:xfrm>
            <a:off x="6858000" y="3214800"/>
            <a:ext cx="19447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5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«Что растёт на грядке?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 rot="19257600">
            <a:off x="6840360" y="1812600"/>
            <a:ext cx="1906920" cy="193500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1"/>
          <p:cNvGrpSpPr/>
          <p:nvPr/>
        </p:nvGrpSpPr>
        <p:grpSpPr>
          <a:xfrm>
            <a:off x="0" y="5786280"/>
            <a:ext cx="9001080" cy="785880"/>
            <a:chOff x="0" y="5786280"/>
            <a:chExt cx="9001080" cy="785880"/>
          </a:xfrm>
        </p:grpSpPr>
        <p:sp>
          <p:nvSpPr>
            <p:cNvPr id="161" name="Облако 5"/>
            <p:cNvSpPr/>
            <p:nvPr/>
          </p:nvSpPr>
          <p:spPr>
            <a:xfrm>
              <a:off x="0" y="5786280"/>
              <a:ext cx="8929800" cy="357120"/>
            </a:xfrm>
            <a:prstGeom prst="pie">
              <a:avLst/>
            </a:prstGeom>
            <a:solidFill>
              <a:srgbClr val="99663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Облако 6"/>
            <p:cNvSpPr/>
            <p:nvPr/>
          </p:nvSpPr>
          <p:spPr>
            <a:xfrm>
              <a:off x="0" y="5929200"/>
              <a:ext cx="8929800" cy="357120"/>
            </a:xfrm>
            <a:prstGeom prst="pi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Облако 7"/>
            <p:cNvSpPr/>
            <p:nvPr/>
          </p:nvSpPr>
          <p:spPr>
            <a:xfrm>
              <a:off x="214200" y="6072120"/>
              <a:ext cx="8786880" cy="357120"/>
            </a:xfrm>
            <a:prstGeom prst="pie">
              <a:avLst/>
            </a:prstGeom>
            <a:solidFill>
              <a:srgbClr val="99663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Облако 8"/>
            <p:cNvSpPr/>
            <p:nvPr/>
          </p:nvSpPr>
          <p:spPr>
            <a:xfrm>
              <a:off x="357120" y="6215040"/>
              <a:ext cx="8572680" cy="357120"/>
            </a:xfrm>
            <a:prstGeom prst="pie">
              <a:avLst/>
            </a:pr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4143240" y="1000080"/>
            <a:ext cx="2071800" cy="248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4"/>
          <a:stretch/>
        </p:blipFill>
        <p:spPr>
          <a:xfrm>
            <a:off x="5929200" y="41432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5"/>
          <a:stretch/>
        </p:blipFill>
        <p:spPr>
          <a:xfrm rot="17407200">
            <a:off x="1972080" y="3472560"/>
            <a:ext cx="19144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5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15:44Z</dcterms:created>
  <dc:creator>Андрей</dc:creator>
  <dc:description/>
  <dc:language>en-US</dc:language>
  <cp:lastModifiedBy>www.PHILka.RU</cp:lastModifiedBy>
  <dcterms:modified xsi:type="dcterms:W3CDTF">2011-05-06T14:45:47Z</dcterms:modified>
  <cp:revision>88</cp:revision>
  <dc:subject/>
  <dc:title>Автор: учитель – логопед ГОУ Борский психологический центр Денисова Лариса Геннадьевна</dc:title>
</cp:coreProperties>
</file>